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47F-0927-4722-AA9E-0FC5A37F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3F5-9A08-410C-8054-8AF8EA2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B05-CA2C-4A7A-9CF1-F4EAC919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25A-16B3-46F6-9054-947CBCE8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D97-014B-4B3E-AD04-4278148A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119-B977-4CAD-A4E6-AF2E411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8C8-42A8-4A51-AA6E-F728188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5BD-6334-427A-AFDA-052D001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38A-3489-43FE-86FA-D517408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19B0-E42C-426E-AB2C-C097600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E1A5-C618-4160-810F-C5936140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912-A496-42FF-A190-2CBB720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64B-EC45-4FA8-86BE-C7CF5A8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6B7B-9783-4223-B5D3-3BF4426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966-3140-451E-87DE-64DE129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BEAC-394C-4297-941D-839C9A5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3597-6598-4290-9B18-84C30AD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086-B66D-4901-AE50-4C2EC42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AF-1E17-458A-B038-D4BAEE2E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036-7036-436D-975B-47905C8C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CAB-DA36-4251-A791-C69B47F0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DF5-0547-4EB1-9BAB-CC4E1B62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D0D-322A-47E9-AF58-2AFDAB4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669-312B-4D5B-9FF0-E98CA97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2DF-7A68-4540-90C9-926353BFDE84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C8C8-DC01-46E9-82FC-2DB7A5615E01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cf48c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cf48c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11430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700"/>
                </a:solidFill>
                <a:latin typeface="Arial Black"/>
              </a:rPr>
              <a:t>Micro-organism’s needs</a:t>
            </a:r>
            <a:endParaRPr b="0" lang="en-US" sz="40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240" y="3124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FAT TOM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70400" y="4267080"/>
            <a:ext cx="387360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796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3092400"/>
            <a:ext cx="518148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7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40072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FAT TO</a:t>
            </a:r>
            <a:r>
              <a:rPr b="0" lang="en-US" sz="4000" spc="-1" strike="noStrike">
                <a:solidFill>
                  <a:srgbClr val="ff9933"/>
                </a:solidFill>
                <a:latin typeface="Arial Black"/>
              </a:rPr>
              <a:t>M</a:t>
            </a:r>
            <a:endParaRPr b="0" lang="en-US" sz="40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Moisture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 All microorganisms must have an abundant supply of water to grow.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Foods that are kept dry or preserved with salt or sugar, such as jerky or jams and jellies deprive microorganisms of water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390680" cy="26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Micro-organism’s need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re are six conditions that micro-organisms need in order to reproduce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e try to control these six conditions to stop micro-organisms from spoiling our food and causing food poisoning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25905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Favourable condition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e can control the growth and reproduction of micro-organisms by changing or eliminating one or more of the conditions that they need to survive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5562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 Black"/>
              </a:rPr>
              <a:t>F</a:t>
            </a: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AT TOM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Food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- Moist protein-rich foods, such as meat, milk, eggs and fish, are favourites to many micro-organisms.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If there is food around (in the kitchen), micro-organisms will be present.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3024000" cy="2703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523880" y="3962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F</a:t>
            </a:r>
            <a:r>
              <a:rPr b="0" lang="en-US" sz="4000" spc="-1" strike="noStrike">
                <a:solidFill>
                  <a:srgbClr val="ff9933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T TOM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Acidity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 Micro-organisms grow best in an environment that is neutral or slightly acidic.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Acidic foods, like vinegar and fresh fruits (especially citrus), can kill micro-organisms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075040" cy="335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1930320" cy="284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276720" y="4114800"/>
            <a:ext cx="211608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FA</a:t>
            </a:r>
            <a:r>
              <a:rPr b="0" lang="en-US" sz="4000" spc="-1" strike="noStrike">
                <a:solidFill>
                  <a:srgbClr val="ff9933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 TOM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Time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 The more time you give micro organisms to grow and reproduce, the more there will be to spoil our food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Food must be used up before this happens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1521000" cy="1930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FAT </a:t>
            </a:r>
            <a:r>
              <a:rPr b="0" lang="en-US" sz="4000" spc="-1" strike="noStrike">
                <a:solidFill>
                  <a:srgbClr val="ff9933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OM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638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Temperature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 Microorganisms grow fast between the temperatures of 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5° to 60°C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.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Extreme heat will kill micro-organisms, and extreme cold will stop them from growing and reproducing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27600" y="1371600"/>
            <a:ext cx="3416400" cy="37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FAT T</a:t>
            </a:r>
            <a:r>
              <a:rPr b="0" lang="en-US" sz="4000" spc="-1" strike="noStrike">
                <a:solidFill>
                  <a:srgbClr val="ff9933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M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f48c"/>
                </a:solidFill>
                <a:uFillTx/>
                <a:latin typeface="Trebuchet MS"/>
              </a:rPr>
              <a:t>Oxygen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 some micro-organisms need oxygen to grow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Preserving food in cans or jars takes oxygen away from the micro-organism’s environment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149220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866960" cy="190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438280" y="3505320"/>
            <a:ext cx="4381560" cy="31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33:24Z</dcterms:created>
  <dc:creator>Teacher</dc:creator>
  <dc:description/>
  <dc:language>en-US</dc:language>
  <cp:lastModifiedBy>Teacher</cp:lastModifiedBy>
  <dcterms:modified xsi:type="dcterms:W3CDTF">2006-11-07T12:31:59Z</dcterms:modified>
  <cp:revision>14</cp:revision>
  <dc:subject/>
  <dc:title>Micro-organism’s needs</dc:title>
</cp:coreProperties>
</file>